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380B-0FCE-4D6C-AFA1-6E849B3AD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3CD3-EF98-4334-A339-8C21F70DF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84A6-19D7-47CC-B694-6A6B72F8A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3887-1094-4CF0-A552-6DA82E424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055B5-CEA3-4B6E-8933-B15667C32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FBFF5-DA07-4B02-B9A1-94431A605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6D66F-D9B1-4F46-9828-78B650903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4753A-02D6-4EC7-95AC-44F2FAE2E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79A72-22F3-46F2-81F1-91263124E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C319A-21F7-47F5-A758-EF94FEBC0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2909A-93D2-4C87-86B2-7BAC16D86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BAF9-E4AC-4042-A9D5-1524B6D97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976B4-36B7-4FEB-AEF2-EF932C128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B206E-1FEF-4AA5-955E-092F47822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46A42-72A2-4448-8803-E8FCB0E85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FAD5B-1E53-4B56-B48D-2EFFF49F1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D57CF-7CD2-491F-BA3F-A261114B9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AEF7-AA67-4CDB-888B-43B15BCB2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4B7F-6E96-49B3-9C67-DE1434C35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E002-69E2-49C1-812C-18DDA26E0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F327-BF57-4BF7-B031-0663F8889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E859-903C-4543-AA9D-D1FE4F9A2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3407-C62E-468C-A8D5-D9D65FCD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2304-CB1E-45D2-9EAC-115986844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E1A27-E77F-4354-9918-EB3C12DDB90C}" type="slidenum">
              <a:rPr b="0" lang="en-AU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25791-FE98-4A86-ABBF-7C9EDC4E571B}" type="slidenum">
              <a:rPr b="0" lang="en-AU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Recruitment, Selection &amp; Induc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Induction &amp; Orientatio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Aim of Induction &amp; Orienta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123720" y="2115720"/>
            <a:ext cx="54104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o capitalise on the new person’s enthusiasm by providing all the information and knowledge they require in order to become an effective asset to your business and its other worke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6" name="bd06119_" descr=""/>
          <p:cNvPicPr/>
          <p:nvPr/>
        </p:nvPicPr>
        <p:blipFill>
          <a:blip r:embed="rId1"/>
          <a:stretch/>
        </p:blipFill>
        <p:spPr>
          <a:xfrm>
            <a:off x="304920" y="2666880"/>
            <a:ext cx="2655720" cy="3854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1A4A-4273-4348-89E3-CCA8716D94B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Benefits of Induction &amp; Orienta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hort ter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Enthusiasm, confidence and commitment can be generat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ransition from one place to another is made easi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e new recruit adapts to the work environment more quickl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Long Ter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Reduced levels of absenteeis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mprovements in employee mora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Lower recruitment costs due to lower turnover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530E-0979-4388-94E9-E92FC47943B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roblems with Induc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558000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an be too formal and focused on one-way communica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oo much emphasis on paperwor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elevance of information provid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nformation overloa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Lack of follow up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1" name="bs02009_" descr=""/>
          <p:cNvPicPr/>
          <p:nvPr/>
        </p:nvPicPr>
        <p:blipFill>
          <a:blip r:embed="rId1"/>
          <a:stretch/>
        </p:blipFill>
        <p:spPr>
          <a:xfrm>
            <a:off x="5334120" y="2895480"/>
            <a:ext cx="3325680" cy="329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E96A-C43D-42B8-A664-14205084C45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Needs of the New Recruit &amp; the Busines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New Recrui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Job and person securit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Reduction in initial anxiety brought about by joining the organis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e need for insight into the way things are don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e Busine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 productive work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Loyalty and commitment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dherence to legislative requiremen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Retention of new recrui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911F-215C-4259-A11A-B7A8EEE11D8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uccessful Induc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810800" y="1828800"/>
            <a:ext cx="73328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abby (1990) suggests that we have done a good job of induction if the new recruit:-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s relaxed and demonstrating satisfaction with the jo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Realises their importance to the work group/tea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s showing signs of integr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Knows where to get help, and is asking for i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ppears motivated and/or keen to lear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6" name="j0078833" descr=""/>
          <p:cNvPicPr/>
          <p:nvPr/>
        </p:nvPicPr>
        <p:blipFill>
          <a:blip r:embed="rId1"/>
          <a:stretch/>
        </p:blipFill>
        <p:spPr>
          <a:xfrm>
            <a:off x="228600" y="4114800"/>
            <a:ext cx="2743200" cy="2454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5B7A-102D-4BD0-9C9C-85419948C9C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8480" y="685440"/>
            <a:ext cx="88851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Designing a Checklist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48769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Items that could be     included in an 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Explanations of organisations aims and purpo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Chain of comma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Organisational polici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Rules &amp; Regula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afety procedur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Performance standards and measures of performanc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Expectations – punctuality, dress, code of conduc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343040" y="1371240"/>
            <a:ext cx="480060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Items that could be included in an 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Orient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Location of toilets, lockers, amenities et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ntroductions to supervisors and co-worker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Physical layout and workflow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ntroduction to a buddy and explanation of their ro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Pay procedur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rain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962520" y="6324480"/>
            <a:ext cx="5181480" cy="53352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ffffcc"/>
            </a:solidFill>
            <a:miter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cc"/>
                </a:solidFill>
                <a:latin typeface="Arial"/>
              </a:rPr>
              <a:t>Handout: Induction checklist for Dept Superviso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EFF2-66ED-4AC1-987E-2372F7CE38A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486640" cy="78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valuate Induction Program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riteria you could use to evaluate your induction program could include but is not limited to the following;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Does it meet the needs of both parties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Does it allow you to meet legislative requirements such as OHS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s related information grouped together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Does it provide a logical flow of information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s information is the form of brochures/flyers etc to allow the new recruit to take the information way with them? (remember that nerves usually mean that information goes in one ear and out the other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ON’T forget to ask the new recruit what they felt about the induction!!!!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8515-25FE-4352-992E-BEC011801CE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762120"/>
            <a:ext cx="8352000" cy="11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.G.A – Butchers Pape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360" y="1905120"/>
            <a:ext cx="782964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You are the HR Team for the         organisation known as ‘XXX’ HR Consultants’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e organisation has just completed six months of intensive recruitment and subsequent induction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Your job is now to evaluate the induction process and you have decided to do this by developing a questionnaire that will be distributed to all new recruit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n the next 30 minutes develop a questionnaire that could be used for this purpos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Your team will then present their completed questionnaire to the larger grou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5" name="bd07066_" descr=""/>
          <p:cNvPicPr/>
          <p:nvPr/>
        </p:nvPicPr>
        <p:blipFill>
          <a:blip r:embed="rId1"/>
          <a:stretch/>
        </p:blipFill>
        <p:spPr>
          <a:xfrm>
            <a:off x="6400800" y="762120"/>
            <a:ext cx="2743200" cy="2198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B367-C65C-4E94-B2CB-2F3CA211639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4T03:52:52Z</dcterms:created>
  <dc:creator>Mr &amp; Mrs McLeod</dc:creator>
  <dc:description/>
  <dc:language>en-US</dc:language>
  <cp:lastModifiedBy>John McDonald</cp:lastModifiedBy>
  <dcterms:modified xsi:type="dcterms:W3CDTF">2001-11-12T21:31:20Z</dcterms:modified>
  <cp:revision>9</cp:revision>
  <dc:subject/>
  <dc:title>Recruitment, Selection &amp; Induction</dc:title>
</cp:coreProperties>
</file>